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FE0-23F7-4330-A078-0E946CDC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09C-5E20-4C09-9E89-2121EEB5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801D-C16D-481A-AA01-A059FF92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3E0-5D07-4E80-8DA4-691E707F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599-EC8C-4AB6-A2DE-61D817AD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4C1-906D-492D-B4EB-CEAF4F6A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84A-2D9E-47C5-9ABA-B6C4A69F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D28C-DCC7-4E16-8692-FF1ECF9F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95E-8C15-4621-9894-875572E2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C521-661C-4070-A4DD-141E6456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1A7-1207-4C93-9B6C-26203205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88C-53CB-4BDC-9F48-36769930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131C-23CD-4CA8-9859-4B994152B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7:48:57Z</dcterms:created>
  <dc:creator>Grupo Editorial</dc:creator>
  <dc:description/>
  <dc:language>en-US</dc:language>
  <cp:lastModifiedBy>Grupo Editorial</cp:lastModifiedBy>
  <dcterms:modified xsi:type="dcterms:W3CDTF">2001-11-21T17:51:51Z</dcterms:modified>
  <cp:revision>1</cp:revision>
  <dc:subject/>
  <dc:title>Sin título de diapositiva</dc:title>
</cp:coreProperties>
</file>